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AE62-B62A-4E0F-88ED-15928863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C3A-2598-482D-91D7-41EA036C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712-C8B7-48A9-AE15-E61B2FB5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D6B-F985-499E-97D9-7266F7B4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4903-6D5E-455C-B1C4-41E35B22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EF4-89C9-4205-9636-7DC8B78B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7E2F-7336-4734-9A68-5ACE086C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30D7-3200-4DFA-A5D6-9C2D2B8C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312-7A7C-4B16-BC62-BB3D7D04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9E6-7701-4A85-9082-E145125C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720-D8CC-4CCE-B9F5-7B21FC9F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767C-9370-4299-AB9F-000134AD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Bradley Hand ITC"/>
              </a:rPr>
              <a:t>Click to edit the title text format</a:t>
            </a: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  <a:p>
            <a:pPr lvl="1" marL="743040" indent="-285840">
              <a:spcBef>
                <a:spcPts val="700"/>
              </a:spcBef>
              <a:buSzPct val="1321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  <a:p>
            <a:pPr lvl="2" marL="1143000" indent="-228600">
              <a:spcBef>
                <a:spcPts val="700"/>
              </a:spcBef>
              <a:buSzPct val="1101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Third Outline Level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Fourth Outline Level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Fifth Outline Level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Sixth Outline Level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Seventh Outline Level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284F-94D6-41B6-83C5-541C67D9B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Bradley Hand ITC"/>
              </a:rPr>
              <a:t>How much popcorn pops.</a:t>
            </a: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Bradley Hand ITC"/>
              </a:rPr>
              <a:t>Problem</a:t>
            </a: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50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Do different brands of popcorn leave different amounts of un-popped popcorn kernels?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Bradley Hand ITC"/>
              </a:rPr>
              <a:t>Hypothesis</a:t>
            </a: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50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I predict that the Orville Redenbacher’s will leave the least amount of kernels left over after being popped, because it is the highest quality brand.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Bradley Hand ITC"/>
              </a:rPr>
              <a:t>Materials</a:t>
            </a: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4 different brands of popcorn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Microwave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SzPct val="1542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Paper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Pencil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SzPct val="1542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Camera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Bradley Hand ITC"/>
              </a:rPr>
              <a:t>Procedure</a:t>
            </a: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350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Need 4 different brands of popcorn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  <a:p>
            <a:pPr marL="298440" indent="-298440">
              <a:spcBef>
                <a:spcPts val="799"/>
              </a:spcBef>
              <a:buSzPct val="1350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op the popcorn for the same amount of time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  <a:p>
            <a:pPr marL="298440" indent="-298440">
              <a:spcBef>
                <a:spcPts val="799"/>
              </a:spcBef>
              <a:buSzPct val="1350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Take pictures while popcorn is popping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  <a:p>
            <a:pPr marL="298440" indent="-298440">
              <a:spcBef>
                <a:spcPts val="799"/>
              </a:spcBef>
              <a:buSzPct val="1350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Count all of the un-popped popcorn kernels in each bag and record it down on paper.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  <a:p>
            <a:pPr marL="298440" indent="-298440">
              <a:spcBef>
                <a:spcPts val="799"/>
              </a:spcBef>
              <a:buSzPct val="1350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Look at all of my results for how many popcorn kernels are left in the bag and then determine which brand of popcorn pops the most kernels.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Bradley Hand ITC"/>
              </a:rPr>
              <a:t>Results</a:t>
            </a: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50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Orville Redenbacher’s- 33 kernels left over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  <a:p>
            <a:pPr marL="343080" indent="-343080">
              <a:spcBef>
                <a:spcPts val="799"/>
              </a:spcBef>
              <a:buSzPct val="1350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AC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- 27 kernels left over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  <a:p>
            <a:pPr marL="343080" indent="-343080">
              <a:spcBef>
                <a:spcPts val="799"/>
              </a:spcBef>
              <a:buSzPct val="1350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Kroger- 98 kernels left over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  <a:p>
            <a:pPr marL="343080" indent="-343080">
              <a:spcBef>
                <a:spcPts val="799"/>
              </a:spcBef>
              <a:buSzPct val="1350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Clover Valley- 47 kernels left over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Bradley Hand ITC"/>
              </a:rPr>
              <a:t>Conclusion</a:t>
            </a: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50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My Hypothesis was wrong Orville Redenbacher’s left 33 un-popped popcorn kernels, when AC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I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only had 27 un-popped popcorn kernels.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9:56:05Z</dcterms:created>
  <dc:creator>USD376</dc:creator>
  <dc:description/>
  <dc:language>en-US</dc:language>
  <cp:lastModifiedBy>USD376</cp:lastModifiedBy>
  <dcterms:modified xsi:type="dcterms:W3CDTF">2011-01-19T14:46:24Z</dcterms:modified>
  <cp:revision>6</cp:revision>
  <dc:subject/>
  <dc:title>Slide 1</dc:title>
</cp:coreProperties>
</file>